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0385-E18A-45B7-846D-D392B43BB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siselinternational.com/?p=1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A51-E635-43B2-9975-FBF6192A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143-5EE6-44B8-BF5B-B11D9386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E0E-7F70-4280-B88A-CEC7D184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518-6060-49CA-ABDC-AFD5E015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754-F206-4390-8BEA-B1E1F8C9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4E6-554C-4C2B-BE00-B45812E5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CB4-565A-4A3D-B11B-08138968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670-205D-4EBC-8FA5-EDCB3303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D18-CFF2-4FE8-A447-5406E5C2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52B-71EF-4159-A4E8-3697D0C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0F9-84D9-4C1C-A368-52603DE7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729-23E2-42B8-864E-D399CD09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35DC-C5ED-44E8-8342-73E718D2B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c_%20education%20mac.htm" TargetMode="External"/><Relationship Id="rId2" Type="http://schemas.openxmlformats.org/officeDocument/2006/relationships/hyperlink" Target="http://www.biostudio.com/c_%20education%20mac.htm" TargetMode="External"/><Relationship Id="rId3" Type="http://schemas.openxmlformats.org/officeDocument/2006/relationships/hyperlink" Target="http://www.biostudio.com/c_%20education%20mac.htm" TargetMode="External"/><Relationship Id="rId4" Type="http://schemas.openxmlformats.org/officeDocument/2006/relationships/hyperlink" Target="http://www.biostudio.com/c_%20education%20mac.htm" TargetMode="External"/><Relationship Id="rId5" Type="http://schemas.openxmlformats.org/officeDocument/2006/relationships/hyperlink" Target="http://www.biostudio.com/c_%20education%20mac.htm" TargetMode="External"/><Relationship Id="rId6" Type="http://schemas.openxmlformats.org/officeDocument/2006/relationships/hyperlink" Target="http://www.biostudio.com/c_%20education%20mac.htm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 Walker “Stop Aging Now TS-X Telomere Supple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7840" y="198108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studio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/c_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%20education%20mac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contained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ids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om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’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2-04-19T16:43:48Z</dcterms:modified>
  <cp:revision>61</cp:revision>
  <dc:subject/>
  <dc:title>Molecular Genetics</dc:title>
</cp:coreProperties>
</file>